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1774-E07C-4E53-92F2-F7523814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253-34B0-4DD8-9E5C-EFE13AF0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131-D24F-4CAB-AEBE-B13BDA1E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34B-5A00-49A0-9DD1-7614CAB3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244-CA49-472E-881D-505D20D5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46C2-2F68-4BAA-AA02-0D0C2A11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E7C-AEB0-4D8E-8AD9-98F0D136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127-4E35-415E-B57F-89AD61EC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31B-ECFF-42D1-B863-3BF94166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C18-6EDA-432E-8BAE-AB0CD1FE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F97-DE9B-44B7-81DF-90BED767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DEF5-636F-4F76-8E11-8F7067A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A2B7-FD10-49A4-8132-2334A456E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514240" y="228600"/>
            <a:ext cx="407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Social Stud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12360" y="2362320"/>
            <a:ext cx="744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ame: ____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897280" y="2133720"/>
            <a:ext cx="12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609480" y="36417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swer the following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was the colony named Jamestow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447920" y="2286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 honor King James of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06668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did the queen say could set up England’s first colony in North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1066680" y="44956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r Walter Ralei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aleigh pic 2.jpg"/>
          <p:cNvPicPr/>
          <p:nvPr/>
        </p:nvPicPr>
        <p:blipFill>
          <a:blip r:embed="rId1"/>
          <a:stretch/>
        </p:blipFill>
        <p:spPr>
          <a:xfrm>
            <a:off x="5791320" y="2057400"/>
            <a:ext cx="2133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ere most of the colonists that came to Jamestown looking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895480" y="3124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gol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447920" y="533520"/>
            <a:ext cx="69339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ere 3 problems as Jamestown develop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209680" y="21258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209680" y="322596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sease carrying mosquit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2209680" y="4292640"/>
            <a:ext cx="5943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dian attacks because the colonists were taking Indian lands and destroying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06668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happened to the people in the English colony on Roanoke is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066680" y="274464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y disappeared, never to be f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21932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as the only clue left behind by the people from the “lost colony” of Roano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066680" y="472428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word “CROATOAN” carved on wooden p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croatoan2.jpg"/>
          <p:cNvPicPr/>
          <p:nvPr/>
        </p:nvPicPr>
        <p:blipFill>
          <a:blip r:embed="rId1"/>
          <a:stretch/>
        </p:blipFill>
        <p:spPr>
          <a:xfrm>
            <a:off x="5859360" y="2584440"/>
            <a:ext cx="1913040" cy="1987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6477120" y="2819520"/>
            <a:ext cx="457200" cy="228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the Indian princess who, according to legend, saved Captain Smith’s li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828800" y="34480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ocahonta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was Captain John Smith’s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unbreakable ru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447920" y="2286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yone who did not work did not ea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447920" y="533520"/>
            <a:ext cx="693396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Wampanoag Indians befriended the Pilgrims and helped them survive.  What eventually happened to these neighborly Ind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133720" y="380196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rced off their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133720" y="471636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killed or captured in f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133720" y="563076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ied from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1066680" y="39625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en Elizabeth I was England’s mon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066680" y="5335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England’s queen who encouraged the exploration and colonization of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eliz1-ermine.jpg"/>
          <p:cNvPicPr/>
          <p:nvPr/>
        </p:nvPicPr>
        <p:blipFill>
          <a:blip r:embed="rId1"/>
          <a:stretch/>
        </p:blipFill>
        <p:spPr>
          <a:xfrm>
            <a:off x="7086600" y="2133720"/>
            <a:ext cx="1403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3505320" y="31240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al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y the end of the first year, how many colonists in Jamestown had d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id the Mayflower Pilgrims go to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447920" y="228600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 find the freedom to follow their own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1066680" y="213516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John Wh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066680" y="5335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chosen to lead the colony of Roano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the money left over after everything has been paid for in a busin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895480" y="31240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rof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066680" y="533520"/>
            <a:ext cx="77724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ive 3 reasons the English people were coming to the Americ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773720" y="2743200"/>
            <a:ext cx="409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ealth (rich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778400" y="3801960"/>
            <a:ext cx="49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heap or free 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1777320" y="4792680"/>
            <a:ext cx="48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708200" y="5630760"/>
            <a:ext cx="74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dventure; work; to start a new and bette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ompany started the trading post and colony of Jamestown and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066680" y="297180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Virginia Company of London started Jamestown to make a pro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14300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the first child born of English parents in North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143000" y="327672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irginia D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447920" y="533520"/>
            <a:ext cx="6933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ow did Tisquantum (Squanto) help keep the Pilgrims a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133720" y="2811600"/>
            <a:ext cx="624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ecame interpre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2133720" y="39625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owed Pilgrims where to 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2133720" y="480060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howed Pilgrims how to plant cr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1447920" y="53352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 what year was England’s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ermanent colony of Jamestown, Virginia, establish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76720" y="360036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60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106668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was England’s most famous explorer, and how did he escape the Span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066680" y="3886200"/>
            <a:ext cx="73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rancis Drake; he sailed around the world to escape Spanish war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nicholas_hilliard_007_mid.jpg"/>
          <p:cNvPicPr/>
          <p:nvPr/>
        </p:nvPicPr>
        <p:blipFill>
          <a:blip r:embed="rId1"/>
          <a:stretch/>
        </p:blipFill>
        <p:spPr>
          <a:xfrm>
            <a:off x="6699240" y="2057400"/>
            <a:ext cx="1371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1447920" y="533520"/>
            <a:ext cx="7010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 what year was the colony of Plymouth, Massachusetts, established by the Mayflower Pilgri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200400" y="3676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16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447920" y="533520"/>
            <a:ext cx="6933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crop became the “gold” that made Jamestown rich and England’s 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permanent colony in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2438280" y="4572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tobacc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became the leader of Jamestow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828800" y="47242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aptain John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john smith 1.jpg"/>
          <p:cNvPicPr/>
          <p:nvPr/>
        </p:nvPicPr>
        <p:blipFill>
          <a:blip r:embed="rId1"/>
          <a:stretch/>
        </p:blipFill>
        <p:spPr>
          <a:xfrm>
            <a:off x="4984920" y="1523880"/>
            <a:ext cx="248256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ship carried the Pilgrims to Plymou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1600200" y="4692600"/>
            <a:ext cx="586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Mayflow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MAYFLOWER 1.jpg"/>
          <p:cNvPicPr/>
          <p:nvPr/>
        </p:nvPicPr>
        <p:blipFill>
          <a:blip r:embed="rId1"/>
          <a:stretch/>
        </p:blipFill>
        <p:spPr>
          <a:xfrm>
            <a:off x="6095880" y="1981080"/>
            <a:ext cx="17272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447920" y="533520"/>
            <a:ext cx="693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o keep order, the Mayflower Pilgrims signed an agreement to make laws for the good of the colony and to obey those laws.  What is this 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example of self-rule by colonists in the America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523880" y="50976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Mayflower Co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371600" y="53352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, do you think, Tisquantum (Squanto) was willing to help the Pilgrims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143000" y="3048120"/>
            <a:ext cx="7315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isquantum was probably treated well by the English after being a slave under Spanish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o did the Indian Samoset introduce to the Pilgri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447920" y="48769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isquantum, or Squa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" descr="Squanto 1.jpg"/>
          <p:cNvPicPr/>
          <p:nvPr/>
        </p:nvPicPr>
        <p:blipFill>
          <a:blip r:embed="rId1"/>
          <a:srcRect l="0" t="0" r="0" b="7891"/>
          <a:stretch/>
        </p:blipFill>
        <p:spPr>
          <a:xfrm>
            <a:off x="3813120" y="2057400"/>
            <a:ext cx="1749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1066680" y="53352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gland’s first colony was set up on Roanoke, an island just off the coast of what is today which st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743200" y="502920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North Carol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roanoke.jpg"/>
          <p:cNvPicPr/>
          <p:nvPr/>
        </p:nvPicPr>
        <p:blipFill>
          <a:blip r:embed="rId1"/>
          <a:stretch/>
        </p:blipFill>
        <p:spPr>
          <a:xfrm>
            <a:off x="5181480" y="2666880"/>
            <a:ext cx="29718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66680" y="533520"/>
            <a:ext cx="777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gland defeated Spain’s fleet of war ships.  What is a fleet of war ships call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219320" y="327672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rm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Spanish_Armada.jpg"/>
          <p:cNvPicPr/>
          <p:nvPr/>
        </p:nvPicPr>
        <p:blipFill>
          <a:blip r:embed="rId1"/>
          <a:stretch/>
        </p:blipFill>
        <p:spPr>
          <a:xfrm>
            <a:off x="4495680" y="2743200"/>
            <a:ext cx="3657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447920" y="533520"/>
            <a:ext cx="6933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name is given to a person who makes a journey for a religious reas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219320" y="35812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pilgri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pilgrims 1.gif"/>
          <p:cNvPicPr/>
          <p:nvPr/>
        </p:nvPicPr>
        <p:blipFill>
          <a:blip r:embed="rId1"/>
          <a:stretch/>
        </p:blipFill>
        <p:spPr>
          <a:xfrm>
            <a:off x="4876920" y="2944800"/>
            <a:ext cx="302868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447920" y="533520"/>
            <a:ext cx="693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ame the state where Plymouth is locat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066680" y="2362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Massachuset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1447920" y="533520"/>
            <a:ext cx="6933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y the end of the first winter, how many of the Plymouth colonists had di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3276720" y="367668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half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66680" y="53352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was England attacking Spanish shi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914400" y="20574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 steal the gold and other riches the Spanish treasure ships were carrying from the Americas to Sp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23:56:41Z</dcterms:created>
  <dc:creator>Michele Franck</dc:creator>
  <dc:description/>
  <dc:language>en-US</dc:language>
  <cp:lastModifiedBy>Michele Franck</cp:lastModifiedBy>
  <dcterms:modified xsi:type="dcterms:W3CDTF">2011-05-02T00:57:40Z</dcterms:modified>
  <cp:revision>23</cp:revision>
  <dc:subject/>
  <dc:title>Slide 1</dc:title>
</cp:coreProperties>
</file>